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0182-BE1B-421B-85D6-FC3EA1CBAF0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6692-D5FF-44DA-812B-8A60A2C9C47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1A41-E0A8-4F4D-A65A-76109948D44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0CE6-254E-4D75-BB87-B11A58BD860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F54B-D054-4E5D-B2B7-A03E84926D4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5A06-ACF6-47E9-8416-E04F824260F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D6AD-3B52-4281-B076-E2CB0DEF761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A98B-371F-47E6-BB9B-3909BD1E894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6848-D6C5-41A6-8987-14765DF0239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771E-48A8-4DDC-B0BE-D7510EFFB9E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DA60-F631-4840-A8CC-E89F9421412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19F8-320C-4EEE-BA79-10EEB1E287C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1B8E-44BB-45CB-B89B-ACFBDD93DB2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13BF-896C-40BE-BC11-C5479F76600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21C7-493B-4C19-91FC-086A6E02F0B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7E8F-89E3-4AD3-8478-D3C433E8509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4AB2-8965-43F3-91EB-CC77FDD85C5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7642-B5A8-46F3-827B-EBE3021FC5A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F8F4-6BE3-496E-97CF-EF896670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068D-2FF6-479E-9857-4FF1E350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0113-3918-476D-8FA5-1E810940C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6681-8F5B-4F55-8CCD-C570C3968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AE82-92CE-43E0-90EA-FC5B741A4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930E-D585-4F93-B04C-0D7C9336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A47E-38F3-4E09-8877-BD78D8F5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3891-27CC-498C-894B-5469DBE2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00D1-0C20-48C2-9E44-F068AD76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03C1-07E5-4ED4-AD0B-07844555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888E8-AFFE-499B-A3AB-759114A8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0564-0066-45D5-A40D-EA57D7DE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D813-6A78-45ED-A277-B0C81EB8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51E2-94E3-4596-AA68-A930DECF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B6D8-46DE-4776-BD9D-808B6408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839C-8B5F-421E-9165-1AE09E867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5523-B925-44B5-B99E-777091ED3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D7E1-1C3E-4816-B1BE-6302616F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7CDB-1B5C-447F-B60D-C2D2973A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4B2E-92BC-45B2-AC7B-71D6A469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B91E-B53A-405D-93D0-1480527F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616E-49D4-41B7-B6AB-74F54334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F55B-CD5A-4FF5-857C-C920756F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B68C-B63C-402F-ADA4-CE081B59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C11D-02BC-471A-9193-3B0CAC2A06E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26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1027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1028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1029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1030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8ABE-C226-45B3-BF76-C41B7ED2927E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56000" y="5660640"/>
            <a:ext cx="2663640" cy="792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Insegnante: </a:t>
            </a:r>
            <a:br>
              <a:rPr sz="2000"/>
            </a:b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Vincenza D’Alesio</a:t>
            </a:r>
            <a:endParaRPr b="0" lang="en-US" sz="2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87280" y="476280"/>
            <a:ext cx="64008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SCUOLA PRIMAR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C:\Users\Enza\Downloads\Vicenza.jpg"/>
          <p:cNvPicPr/>
          <p:nvPr/>
        </p:nvPicPr>
        <p:blipFill>
          <a:blip r:embed="rId1"/>
          <a:stretch/>
        </p:blipFill>
        <p:spPr>
          <a:xfrm>
            <a:off x="1979640" y="1052640"/>
            <a:ext cx="4653000" cy="30956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"/>
          <p:cNvSpPr/>
          <p:nvPr/>
        </p:nvSpPr>
        <p:spPr>
          <a:xfrm>
            <a:off x="1403280" y="4076640"/>
            <a:ext cx="5616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Scopriamo le origini dei Veneti</a:t>
            </a:r>
            <a:br>
              <a:rPr sz="3200"/>
            </a:b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attraverso testimonianze scritte ed archeologi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it-IT" sz="3200" spc="-1" strike="noStrike">
                <a:solidFill>
                  <a:srgbClr val="990000"/>
                </a:solidFill>
                <a:latin typeface="Arial"/>
                <a:ea typeface="Arial Unicode MS"/>
              </a:rPr>
              <a:t>La scrittura</a:t>
            </a:r>
            <a:br>
              <a:rPr sz="3200"/>
            </a:b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La lingua dei Veneti antichi si chiama Venetic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. La lingua venetica è "parente" del latino dal quale deriva la nostra lingua italiana. I Veneti impararono la scrittura dagli Etruschi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Il reperto che testimonia l'arrivo della scrittura nel Veneto è una coppa in bronz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con un'iscrizione dedicata alle divinità, realizzata nel VI secolo avanti Cristo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La scrittura venetica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procedeva da destra a sinistr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e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le paro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non erano divise ma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scritte tutte di segui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. C'erano anche dei punti che però non servivano da pause, ma erano utilizzati per dividere le sillabe. Questo modo di scrivere, senza separare le parole, viene chiamato dagli esperti "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scriptio continu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"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Object 4"/>
          <p:cNvGraphicFramePr/>
          <p:nvPr/>
        </p:nvGraphicFramePr>
        <p:xfrm>
          <a:off x="2209680" y="5105520"/>
          <a:ext cx="4953240" cy="133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105520"/>
                    <a:ext cx="4953240" cy="13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000">
    <p:random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http://www.istruzionealtivole.it/public/ricerche/ALTIVOLE.PRIMARIA/PALEOVENETI/scrittura_file/image003.jpg"/>
          <p:cNvPicPr/>
          <p:nvPr/>
        </p:nvPicPr>
        <p:blipFill>
          <a:blip r:embed="rId1"/>
          <a:stretch/>
        </p:blipFill>
        <p:spPr>
          <a:xfrm>
            <a:off x="3886200" y="1219320"/>
            <a:ext cx="4876920" cy="4647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95320" y="304920"/>
            <a:ext cx="3962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Leggere e scrivere</a:t>
            </a:r>
            <a:r>
              <a:rPr b="0" lang="it-IT" sz="2000" spc="-1" strike="noStrike">
                <a:solidFill>
                  <a:srgbClr val="6600ff"/>
                </a:solidFill>
                <a:latin typeface="Arial Unicode MS"/>
                <a:ea typeface="Arial Unicode MS"/>
              </a:rPr>
              <a:t> </a:t>
            </a:r>
            <a:endParaRPr b="0" lang="en-US" sz="2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304560"/>
            <a:ext cx="3581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I Veneti imparavano a leggere e a scrivere nei santuar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.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L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loro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penna era uno stil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appuntito nella parte inferiore, mentre nella parte superiore aveva una specie di "spatolina" che funzionava da gomma per cancellare;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il loro quaderno era una tavoletta ricoperta di ce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Forse, i Veneti che imparavano a leggere e a scrivere avevano anche i libri per "studiare": l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tavolette alfabetiche in metall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nelle quali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erano incise le vocali e le consonanti dell'alfabe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Le scritte in venetico si trovano nei reperti ritrovati nelle tombe o nei santuari;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tutte le iscrizioni sono votive, cioè con la dedica agli dè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48624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2590920" y="1066680"/>
            <a:ext cx="6383160" cy="51674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80720" y="304920"/>
            <a:ext cx="35816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it-IT" sz="3200" spc="-1" strike="noStrike">
                <a:solidFill>
                  <a:srgbClr val="990000"/>
                </a:solidFill>
                <a:latin typeface="Arial"/>
                <a:ea typeface="Arial Unicode MS"/>
              </a:rPr>
              <a:t>La religione</a:t>
            </a:r>
            <a:br>
              <a:rPr sz="3200"/>
            </a:b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 Veneti antichi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onsideravano gli elementi naturali come elementi sacri</a:t>
            </a:r>
            <a:r>
              <a:rPr b="1" lang="it-IT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 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Uno di questi elementi era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l'acqua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. Era considerata sacra ed era usata come oggetto di culto, infatti attorno ai santuari (=templi) c'era spesso un corso d'acqua. 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Un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alto elemento sacro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erano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le piante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. I Veneti antichi credevano che le piante fossero abitate da divinità protettrici del luo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 Veneti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adoravano più di una divinità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, tra queste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la principale era Reitia,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chiamata anche Pora.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itia era la divinità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portatrice di salute,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signora della natura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,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protettrice delle nascite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e dea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della fertilità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, per questo era venerata soprattutto dalle donne.</a:t>
            </a:r>
            <a:br>
              <a:rPr sz="2000"/>
            </a:b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La dea Reitia è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sempre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rappresentata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come una donna vestita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con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il tipico costume veneto: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lo scialle, un'ampia gonna, gli stivali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; in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mano tiene la chiave per aprire la porta della vita nell'aldilà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. Accanto a lei si trovano sempre rappresentati animali e pi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3300"/>
                </a:solidFill>
                <a:latin typeface="Arial"/>
              </a:rPr>
              <a:t>I luoghi di culto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1911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 Veneti avevano costruito luoghi di culto (=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luoghi dove andare a pregar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) e santuari (=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templi dedicati alle divinità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), sparsi in tutto il territorio da loro abitato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ia i luoghi di culto che i santuari erano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sempre all'aper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, in ampi prati oppure nei boschi sacri. 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ssi erano sempre situati all'esterno delle zone abitate,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vicino ai corsi d'acqu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, a piccoli laghetti, alle fonti o alle sorgenti dei fiumi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Là i Veneti antichi andavano a compiere riti e a offrire doni per chiedere la protezione degli dè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1640" y="990720"/>
            <a:ext cx="4267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Un rito sacro era la libagione,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che consisteva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nell'offrire agli dei delle bevande, come vino, latte, miele e acqua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 volte, compivano un rito durante il quale sacrificavano gli animali. Quando chiedevano la protezione,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i Veneti offrivano agli dèi acqua e doni: ex voto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Gli ex voto erano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oggetti in bronzo o in ceramica che si gettavano nelle acque sacre o si appendevano agli alberi. 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La forma degli ex voto dipendeva sempre dalla grazia che si chiedeva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5440" y="12189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romanizzazione, cioè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quando i Veneti diventarono simili ai Romani per lingua, costumi e abitudin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avvenne lentamente e pacificamente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Veneti si erano già alleati con i Romani per sconfiggere i Galli.</a:t>
            </a:r>
            <a:br>
              <a:rPr sz="2000"/>
            </a:b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el II secolo a.C per i Veneti fu un periodo di crisi e i Romani ne approfittarono per allargare il loro imper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vinsero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 Venet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d inserirsi nell'Impero Romano, facendoli diventare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ittadini romani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er un po' di tempo,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 Veneti usarono sia la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ingua venetica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sia la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ingua latina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, poi il latino diventò la lingua dei Veneti.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La romanizzazione</a:t>
            </a:r>
            <a:br>
              <a:rPr sz="3200"/>
            </a:b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348624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2666880" y="4800600"/>
            <a:ext cx="3640320" cy="1400040"/>
          </a:xfrm>
          <a:prstGeom prst="rect">
            <a:avLst/>
          </a:prstGeom>
          <a:ln w="0">
            <a:noFill/>
          </a:ln>
        </p:spPr>
      </p:pic>
    </p:spTree>
  </p:cSld>
  <p:transition advTm="2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6781680" y="5105520"/>
            <a:ext cx="1255680" cy="16192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3300"/>
                </a:solidFill>
                <a:latin typeface="Arial"/>
              </a:rPr>
              <a:t>Cultura</a:t>
            </a:r>
            <a:r>
              <a:rPr b="0" lang="it-IT" sz="32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04560" y="76176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a famiglia veneta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ra la base fondamentale dell’ intera organizzazione sociale.La struttura familiare era rigida e protetta da regole ferree.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l capo – famiglia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eteneva l’autorità sui membri del nucleo familiare; tutti dovevano obbedienza e rispetto. 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a donna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veva un ruolo fondamentale, con dignità ed autorità quasi pari a quelle del marito. Le donne si mostravano in pubblico di rado, forse solamente in occasione tradizionali che segnano la vita di una comunità: le nascite, i matrimoni, la sepoltura dei morti.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utti i componenti il nucleo familiare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artecipavano alle occupazioni quotidiane per procurarsi ed assicurarsi il cibo e i materiali necessari: l’allevamento del bestiame, la coltura degli orti, la caccia e la pesca, la tessitura, la lavorazione del cuoio e delle pelli, la raccolta e la lavorazione del legno. Allo stesso modo la famiglia si procurava il nutrimento, gli abiti, il fuoco, l’abitazione.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 giovani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pprendevano i mestieri, le tecniche di uso comun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metodi di coltivazione della ter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e ragazze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invece, imparavano a filare le lane,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essere tele, a lavorare le pelli di animal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00ff"/>
                </a:solidFill>
                <a:latin typeface="Arial"/>
              </a:rPr>
              <a:t>Organizzazione Sociale</a:t>
            </a:r>
            <a:endParaRPr b="0" lang="en-US" sz="28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8686800" cy="6096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società degli antichi Veneti conosceva delle differenze anche notevoli tra individuo ed individuo, tra classe e classe.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Al vertic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della scala socia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stavano i “</a:t>
            </a:r>
            <a:r>
              <a:rPr b="1" lang="it-IT" sz="1600" spc="-1" strike="noStrike" u="sng">
                <a:solidFill>
                  <a:srgbClr val="000099"/>
                </a:solidFill>
                <a:uFillTx/>
                <a:latin typeface="Arial"/>
              </a:rPr>
              <a:t>SIGNORI</a:t>
            </a:r>
            <a:r>
              <a:rPr b="0" lang="it-IT" sz="2000" spc="-1" strike="noStrike" u="sng">
                <a:solidFill>
                  <a:srgbClr val="000099"/>
                </a:solidFill>
                <a:uFillTx/>
                <a:latin typeface="Arial"/>
              </a:rPr>
              <a:t>”,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i più ricchi tra i lavorator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o coloro che, nell’occasione di qualche guerra, avevano modo di salire ai massimi onori. Sempre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alla classe superiore appartenevano i </a:t>
            </a:r>
            <a:r>
              <a:rPr b="0" lang="it-IT" sz="2000" spc="-1" strike="noStrike" u="sng">
                <a:solidFill>
                  <a:srgbClr val="000099"/>
                </a:solidFill>
                <a:uFillTx/>
                <a:latin typeface="Arial"/>
              </a:rPr>
              <a:t>sacerdot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i quali indossavano ricche vesti, forniti di copricapo e calzature.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Anche i </a:t>
            </a:r>
            <a:r>
              <a:rPr b="0" lang="it-IT" sz="2000" spc="-1" strike="noStrike" u="sng">
                <a:solidFill>
                  <a:srgbClr val="000099"/>
                </a:solidFill>
                <a:uFillTx/>
                <a:latin typeface="Arial"/>
              </a:rPr>
              <a:t>cavalieri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 occupavano una posizione important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a fascia centra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ra composta da </a:t>
            </a:r>
            <a:r>
              <a:rPr b="0" lang="it-IT" sz="2000" spc="-1" strike="noStrike" u="sng">
                <a:solidFill>
                  <a:srgbClr val="000099"/>
                </a:solidFill>
                <a:uFillTx/>
                <a:latin typeface="Arial"/>
              </a:rPr>
              <a:t>lavorator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he, in varie forme, potevano dirsi autonomi: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artigiani, mercanti, agricoltori, cacciatori e pescator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ad essi si aggiungevano i guerrier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a classe più modesta era quella dei </a:t>
            </a:r>
            <a:r>
              <a:rPr b="0" lang="it-IT" sz="2000" spc="-1" strike="noStrike" u="sng">
                <a:solidFill>
                  <a:srgbClr val="cc3300"/>
                </a:solidFill>
                <a:uFillTx/>
                <a:latin typeface="Arial"/>
              </a:rPr>
              <a:t>servi</a:t>
            </a: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llocata al gradino più basso della scala sociale e rappresentata da individui </a:t>
            </a:r>
            <a:r>
              <a:rPr b="1" lang="it-IT" sz="1600" spc="-1" strike="noStrike" u="sng">
                <a:solidFill>
                  <a:srgbClr val="cc3300"/>
                </a:solidFill>
                <a:uFillTx/>
                <a:latin typeface="Arial"/>
              </a:rPr>
              <a:t>scalzi con vesti semplicissime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’ probabile che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 i lavoratori fossero riuniti in associazion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rporazioni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, per i tipi di attività che richiedevano una più alta specializzazione. Ugualmente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uniti tra lor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a interessi comuni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erano i </a:t>
            </a:r>
            <a:r>
              <a:rPr b="0" lang="it-IT" sz="2000" spc="-1" strike="noStrike" u="sng">
                <a:solidFill>
                  <a:srgbClr val="000099"/>
                </a:solidFill>
                <a:uFillTx/>
                <a:latin typeface="Arial"/>
              </a:rPr>
              <a:t>commerciant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che traevano forti guadagni dalla vendita di materiali e prodotti che godevano di maggiore apprezzamento da parte di altre popolazioni.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I </a:t>
            </a:r>
            <a:r>
              <a:rPr b="0" lang="it-IT" sz="2000" spc="-1" strike="noStrike" u="sng">
                <a:solidFill>
                  <a:srgbClr val="000099"/>
                </a:solidFill>
                <a:uFillTx/>
                <a:latin typeface="Arial"/>
              </a:rPr>
              <a:t>guerrieri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 venet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rano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armati in modo simi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  a quello dei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guerrieri greci e troian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 Il capo era protetto dall’elmo a calotta  bassa, il busto era rivestito da una corazza di cuoio irrobustito con  lamine bronzee; le gambe erano riparate da schinieri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00ff"/>
                </a:solidFill>
                <a:latin typeface="Arial"/>
              </a:rPr>
              <a:t>Organizzazione Sociale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30456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armamento era completato dallo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cudo, rotond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ome quello degli opliti greci, dalla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pad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da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una o due lanc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on la punta a foglia di alloro. 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I cavalieri montavano senza sell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Disponevano inoltre di cocchi da guerra trainati dai robusti cavalli vene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Ogni villaggio era indipend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  popolo veneto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i univ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mettendo insieme tutte le forze disponibili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in caso di minaccia dall’estern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di guerra. In queste occasioni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i vari villagg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rano collegati da un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patto di reciproco aiu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he durava fino al cessare del pericolo.  In questi casi gli abitanti maggiori ( Este, Padova ,Vicenza, Oderzo, Montebelluna  ) facevano da centro di riferimento e di guida per i villaggi di minori dimensioni.  Concludendo, anche per una popolazione tendenzialmente pacifica come quella veneta,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a guerra e i guerrieri avevano ugualmente un posto centrale nell’organizzazione socia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Ad essi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era affidato un compito soprattutto difensiv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la protezione della vita e dei beni delle comunità confederate, la garanzia di sicurezza delle vie di comunicazione, il mantenimento delle condizioni di p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Baveuse 3D"/>
              </a:rPr>
              <a:t>F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467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4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L'origine</a:t>
            </a:r>
            <a:br>
              <a:rPr sz="4400"/>
            </a:b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 fonti scritte narrano che il popolo dei Veneti, che i Greci chiamavano Enetoi, veniva dalla Paflagonia, una regione dell'attuale Turchia. 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ito Livio, storico latino vissuto nel I secolo a.C., raccon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it-IT" sz="2000" spc="-1" strike="noStrike" u="sng">
                <a:solidFill>
                  <a:srgbClr val="000099"/>
                </a:solidFill>
                <a:uFillTx/>
                <a:latin typeface="바탕"/>
                <a:ea typeface="Times New Roman"/>
              </a:rPr>
              <a:t>"</a:t>
            </a:r>
            <a:r>
              <a:rPr b="1" i="1" lang="it-IT" sz="20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…</a:t>
            </a:r>
            <a:r>
              <a:rPr b="1" i="1" lang="it-IT" sz="2000" spc="-1" strike="noStrike" u="sng">
                <a:solidFill>
                  <a:srgbClr val="000099"/>
                </a:solidFill>
                <a:uFillTx/>
                <a:latin typeface="바탕"/>
                <a:ea typeface="Times New Roman"/>
              </a:rPr>
              <a:t> gli Enetoi (=Veneti), cacciati per una guerra dalla Paflagonia, con il loro comandante Pilem</a:t>
            </a:r>
            <a:r>
              <a:rPr b="1" i="1" lang="it-IT" sz="20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è</a:t>
            </a:r>
            <a:r>
              <a:rPr b="1" i="1" lang="it-IT" sz="2000" spc="-1" strike="noStrike" u="sng">
                <a:solidFill>
                  <a:srgbClr val="000099"/>
                </a:solidFill>
                <a:uFillTx/>
                <a:latin typeface="바탕"/>
                <a:ea typeface="Times New Roman"/>
              </a:rPr>
              <a:t>ne vennero in aiuto ai Troiani nella guerra contro i Greci.</a:t>
            </a:r>
            <a:r>
              <a:rPr b="1" i="1" lang="it-IT" sz="20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1" i="1" lang="it-IT" sz="2000" spc="-1" strike="noStrike" u="sng">
                <a:solidFill>
                  <a:srgbClr val="000099"/>
                </a:solidFill>
                <a:uFillTx/>
                <a:latin typeface="바탕"/>
                <a:ea typeface="Times New Roman"/>
              </a:rPr>
              <a:t>Durante la guerra, il capo del loro esercito, Pilem</a:t>
            </a:r>
            <a:r>
              <a:rPr b="1" i="1" lang="it-IT" sz="20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è</a:t>
            </a:r>
            <a:r>
              <a:rPr b="1" i="1" lang="it-IT" sz="2000" spc="-1" strike="noStrike" u="sng">
                <a:solidFill>
                  <a:srgbClr val="000099"/>
                </a:solidFill>
                <a:uFillTx/>
                <a:latin typeface="바탕"/>
                <a:ea typeface="Times New Roman"/>
              </a:rPr>
              <a:t>ne, mor</a:t>
            </a:r>
            <a:r>
              <a:rPr b="1" i="1" lang="it-IT" sz="20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ì</a:t>
            </a:r>
            <a:r>
              <a:rPr b="1" i="1" lang="it-IT" sz="2000" spc="-1" strike="noStrike" u="sng">
                <a:solidFill>
                  <a:srgbClr val="000099"/>
                </a:solidFill>
                <a:uFillTx/>
                <a:latin typeface="바탕"/>
                <a:ea typeface="Times New Roman"/>
              </a:rPr>
              <a:t> in un duello.</a:t>
            </a:r>
            <a:br>
              <a:rPr sz="2000"/>
            </a:br>
            <a:r>
              <a:rPr b="1" i="1" lang="it-IT" sz="2000" spc="-1" strike="noStrike" u="sng">
                <a:solidFill>
                  <a:srgbClr val="000099"/>
                </a:solidFill>
                <a:uFillTx/>
                <a:latin typeface="바탕"/>
                <a:ea typeface="Times New Roman"/>
              </a:rPr>
              <a:t>Persa la guerra con la caduta di Troia e rimasti senza il loro condottiero, i Veneti non tornarono</a:t>
            </a:r>
            <a:r>
              <a:rPr b="1" i="1" lang="it-IT" sz="2000" spc="-1" strike="noStrike">
                <a:solidFill>
                  <a:srgbClr val="000099"/>
                </a:solidFill>
                <a:latin typeface="바탕"/>
                <a:ea typeface="Times New Roman"/>
              </a:rPr>
              <a:t> </a:t>
            </a:r>
            <a:r>
              <a:rPr b="1" i="1" lang="it-IT" sz="2000" spc="-1" strike="noStrike" u="sng">
                <a:solidFill>
                  <a:srgbClr val="000099"/>
                </a:solidFill>
                <a:uFillTx/>
                <a:latin typeface="바탕"/>
                <a:ea typeface="Times New Roman"/>
              </a:rPr>
              <a:t>pi</a:t>
            </a:r>
            <a:r>
              <a:rPr b="1" i="1" lang="it-IT" sz="20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ù</a:t>
            </a:r>
            <a:r>
              <a:rPr b="1" i="1" lang="it-IT" sz="2000" spc="-1" strike="noStrike" u="sng">
                <a:solidFill>
                  <a:srgbClr val="000099"/>
                </a:solidFill>
                <a:uFillTx/>
                <a:latin typeface="바탕"/>
                <a:ea typeface="Times New Roman"/>
              </a:rPr>
              <a:t> nel loro territorio.</a:t>
            </a:r>
            <a:r>
              <a:rPr b="1" i="1" lang="it-IT" sz="2000" spc="-1" strike="noStrike">
                <a:solidFill>
                  <a:srgbClr val="000099"/>
                </a:solidFill>
                <a:latin typeface="바탕"/>
                <a:ea typeface="Times New Roman"/>
              </a:rPr>
              <a:t> </a:t>
            </a:r>
            <a:r>
              <a:rPr b="1" i="1" lang="it-IT" sz="2000" spc="-1" strike="noStrike">
                <a:solidFill>
                  <a:srgbClr val="000099"/>
                </a:solidFill>
                <a:latin typeface="바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99"/>
                </a:solidFill>
                <a:latin typeface="바탕"/>
                <a:ea typeface="Arial Unicode MS"/>
              </a:rPr>
              <a:t>     </a:t>
            </a:r>
            <a:r>
              <a:rPr b="1" i="1" lang="it-IT" sz="2000" spc="-1" strike="noStrike" u="sng">
                <a:solidFill>
                  <a:srgbClr val="000099"/>
                </a:solidFill>
                <a:uFillTx/>
                <a:latin typeface="바탕"/>
                <a:ea typeface="Arial Unicode MS"/>
              </a:rPr>
              <a:t>Scelsero allora come loro nuovo comandante Antenore, un principe troiano, e partirono con alcune navi per occupare nuovi territori dove stabilirsi.</a:t>
            </a:r>
            <a:br>
              <a:rPr sz="2000"/>
            </a:br>
            <a:r>
              <a:rPr b="1" i="1" lang="it-IT" sz="2000" spc="-1" strike="noStrike" u="sng">
                <a:solidFill>
                  <a:srgbClr val="000099"/>
                </a:solidFill>
                <a:uFillTx/>
                <a:latin typeface="바탕"/>
                <a:ea typeface="Arial Unicode MS"/>
              </a:rPr>
              <a:t>Risalirono il mare Adriatico, sbarcarono, espulsero gli Euganei abitanti fra le Alpi e il mare e occuparono quella contrada (il nostro territorio).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5715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ff"/>
                </a:solidFill>
                <a:latin typeface="Times New Roman"/>
              </a:rPr>
              <a:t>    </a:t>
            </a:r>
            <a:r>
              <a:rPr b="0" lang="it-IT" sz="3600" spc="-1" strike="noStrike">
                <a:solidFill>
                  <a:srgbClr val="6600ff"/>
                </a:solidFill>
                <a:latin typeface="Times New Roman"/>
              </a:rPr>
              <a:t>Itinerario storico</a:t>
            </a:r>
            <a:br>
              <a:rPr sz="3600"/>
            </a:br>
            <a:r>
              <a:rPr b="0" lang="it-IT" sz="3600" spc="-1" strike="noStrike">
                <a:solidFill>
                  <a:srgbClr val="6600ff"/>
                </a:solidFill>
                <a:latin typeface="Times New Roman"/>
              </a:rPr>
              <a:t>    </a:t>
            </a:r>
            <a:r>
              <a:rPr b="0" lang="it-IT" sz="3600" spc="-1" strike="noStrike">
                <a:solidFill>
                  <a:srgbClr val="ff0066"/>
                </a:solidFill>
                <a:latin typeface="Times New Roman"/>
              </a:rPr>
              <a:t>Itinerario leggendario</a:t>
            </a:r>
            <a:endParaRPr b="0" lang="en-US" sz="36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106" name="Picture 3" descr="http://www.istruzionealtivole.it/public/ricerche/ALTIVOLE.PRIMARIA/PALEOVENETI/migrazioni_file/image002.gif"/>
          <p:cNvPicPr/>
          <p:nvPr/>
        </p:nvPicPr>
        <p:blipFill>
          <a:blip r:embed="rId1"/>
          <a:stretch/>
        </p:blipFill>
        <p:spPr>
          <a:xfrm>
            <a:off x="380880" y="1905120"/>
            <a:ext cx="8229600" cy="441144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4"/>
          <p:cNvSpPr/>
          <p:nvPr/>
        </p:nvSpPr>
        <p:spPr>
          <a:xfrm>
            <a:off x="1403280" y="907920"/>
            <a:ext cx="38124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1403280" y="33336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solidFill>
            <a:srgbClr val="0000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http://www.terzocircolotv.it/sgbosco/progetti/archivio/veneti_antichi/territorio/territorio_1.jpg"/>
          <p:cNvPicPr/>
          <p:nvPr/>
        </p:nvPicPr>
        <p:blipFill>
          <a:blip r:embed="rId1"/>
          <a:stretch/>
        </p:blipFill>
        <p:spPr>
          <a:xfrm>
            <a:off x="3592440" y="1295280"/>
            <a:ext cx="4138560" cy="48294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l territorio</a:t>
            </a:r>
            <a:r>
              <a:rPr b="0" lang="it-IT" sz="4400" spc="-1" strike="noStrike">
                <a:solidFill>
                  <a:srgbClr val="66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Veneti si sono stabiliti in un territorio molto esteso che corrisponde all'incirca alle attuali Tre Venezie: Trentino-Alto-Adige, Veneto, Friuli-Venezia-Giul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È un territorio che ha un paesaggio geografico molto vario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nord ci sono le Alpi, con le alte cime ed i ghiacciai, sembra invalicabile ma, tra le sue valli e suoi passi, nasconde antiche "piste" che seguono il corso dei fiumi, conosciute e percorse già prima all'arrivo dei Veneti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28608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943600" y="1066680"/>
            <a:ext cx="2733840" cy="25815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3300"/>
                </a:solidFill>
                <a:latin typeface="Arial"/>
              </a:rPr>
              <a:t>Alta pianura e bassa pianura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La pianura è divisa, dalla linea delle acque di risorgiva, in alta pianura, quella più vicina ai monti, ghiaiosa ed asciutta, e in bassa pianura con il terreno ricco di acque ed argillo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È quasi certo che i Veneti antichi si sono insediati in questo territorio perché era un territorio molto fertile. Era ricco d'acqua, era pianeggiante e aveva molti passaggi tra le montagne che i Veneti potevano usare, se volevano raggiungere luoghi lontani, per scambiare i loro prodotti con gli altri popo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3124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it-IT" sz="32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L'allevamento dei cavalli</a:t>
            </a:r>
            <a:br>
              <a:rPr sz="3200"/>
            </a:b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alle fonti scritte e dai reperti ritrovati, sappiamo che l'allevamento dei cavalli veneti era famoso in tutto il mondo di allora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mero, fra gli autori più antichi, è stato il primo a citare i cavalli veneti. Egli nell'Iliade, il poema che narra la guerra di Troia, scrive: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"</a:t>
            </a:r>
            <a:r>
              <a:rPr b="0" i="1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…Pilemene dal forte cuore guida i Paflagoni che vengono dagli Eneti, il paese delle mule selvagge…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"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cavalli venivano allevati allo stato semibrado cioè in branchi che vivevano liberi in zone controllate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rabone, storico e geografo greco vissuto nel I secolo a.C., racconta che i cavalli veneti venivano marchiati con la testa di un lupo e perciò egli li chiama "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valli lupifer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".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mpre Strabone racconta che i cavalli veneti erano ammirati anche da Dionisio, il tiranno di Siracusa, che li acquistava per migliorare le razze dei suoi allevamenti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quel tempo i Veneti, quando andavano a chiedere un "aiuto" alle divinità, offrivano degli ex-voto tra cui piccoli cavalli fatti di pietra o di metallo.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http://www.istruzionealtivole.it/public/ricerche/ALTIVOLE.PRIMARIA/PALEOVENETI/attivita_file/image003.gif"/>
          <p:cNvPicPr/>
          <p:nvPr/>
        </p:nvPicPr>
        <p:blipFill>
          <a:blip r:embed="rId1"/>
          <a:stretch/>
        </p:blipFill>
        <p:spPr>
          <a:xfrm>
            <a:off x="4495680" y="304920"/>
            <a:ext cx="3200400" cy="1501560"/>
          </a:xfrm>
          <a:prstGeom prst="rect">
            <a:avLst/>
          </a:prstGeom>
          <a:ln w="0">
            <a:noFill/>
          </a:ln>
        </p:spPr>
      </p:pic>
    </p:spTree>
  </p:cSld>
  <p:transition advTm="2000"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Object 4"/>
          <p:cNvGraphicFramePr/>
          <p:nvPr/>
        </p:nvGraphicFramePr>
        <p:xfrm>
          <a:off x="5562720" y="304920"/>
          <a:ext cx="3276360" cy="22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304920"/>
                    <a:ext cx="327636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9625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3200" spc="-1" strike="noStrike">
                <a:solidFill>
                  <a:srgbClr val="990000"/>
                </a:solidFill>
                <a:latin typeface="Arial"/>
                <a:ea typeface="Arial Unicode MS"/>
              </a:rPr>
              <a:t>Il commercio</a:t>
            </a:r>
            <a:br>
              <a:rPr sz="3200"/>
            </a:b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 Veneti antichi commerciavano con tutti i popoli che vivevano nei territori vicini, soprattutto con gli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Etrusch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e con i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Greci,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ma anche con i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Roma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 e i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popol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che abitavano nei territori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dell'Europa del nord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Dalle popolazioni che vivevano nell'Europa del nord,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acquistavano lo stagno che era necessario per produrre il bronz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, la lega che poi loro utilizzavano per costruire le armi, gli oggetti di ornamento e gli utensili di cui avevano bisogno per svolgere le loro attività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 Veneti scambiavan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con gli altri popoli, i loro prodotti: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ggetti in bronzo e in ceramica, tessuti, vino, cereali e cavalli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l'inizio barattavano (=scambiavano) i loro prodotti con quelli degli altri popoli. Più tardi, verso il IV-III secolo a.C., fu introdotta ed utilizzata la moneta.</a:t>
            </a:r>
            <a:br>
              <a:rPr sz="2000"/>
            </a:b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 mercanti veneti erano famos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in tutto il mondo di allora,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er l'ambra che è una resina prodotta dalle piante e fossilizzata.</a:t>
            </a:r>
            <a:br>
              <a:rPr sz="2000"/>
            </a:br>
            <a:br>
              <a:rPr sz="2000"/>
            </a:b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2"/>
          <p:cNvGraphicFramePr/>
          <p:nvPr/>
        </p:nvGraphicFramePr>
        <p:xfrm>
          <a:off x="7620120" y="4952880"/>
          <a:ext cx="1209600" cy="16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4952880"/>
                    <a:ext cx="120960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La metallurgia</a:t>
            </a:r>
            <a:br>
              <a:rPr sz="3200"/>
            </a:b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I Veneti antichi conoscevano e praticavano la metallurgia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cioè la tecnica per la lavorazione dei metalli, che scoprirono intorno al IX (nono) secolo a.C. . 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Usavano metalli come il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 Unicode MS"/>
                <a:ea typeface="Times New Roman"/>
              </a:rPr>
              <a:t>rame, lo stagno, il bronzo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che è una lega che si ottiene fondendo insieme rame e stagno, l'argento, l'oro e, dal V (quinto) secolo a.C., il ferro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l bronzo giungeva dal Trentino allo stato in parte lavorato sotto forma di blocchetti denominati "pani";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 Unicode MS"/>
                <a:ea typeface="Times New Roman"/>
              </a:rPr>
              <a:t>il ferro giungeva dai monti metalliferi dell'Etruria. 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er estrarre il metallo, frantumavano le rocce fino ad ottenere una specie di sabbia che poi veniva messa nei forni ad alta temperatura per far fondere il metallo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 forni venivano riscaldati bruciando la legna.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 Veneti erano molto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 Unicode MS"/>
                <a:ea typeface="Times New Roman"/>
              </a:rPr>
              <a:t>esperti nella lavorazione su lamina di bronzo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che decoravano con disegni geometrici o con disegni di animali, piante, divinità, usando la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 Unicode MS"/>
                <a:ea typeface="Times New Roman"/>
              </a:rPr>
              <a:t>tecnica dell'incisione e dello sbalzo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L'incisione e lo sbalzo venivano eseguiti dall'artigiano sul rovescio dell'oggetto da decorare, incidendo e battendo con attrezzi come punteruoli, stili e martelli. 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Lavorando sul rovescio della lamina si otteneva poi sul davanti la decorazione voluta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http://www.terzocircolotv.it/sgbosco/progetti/archivio/veneti_antichi/costumi/costumi_2.jpg"/>
          <p:cNvPicPr/>
          <p:nvPr/>
        </p:nvPicPr>
        <p:blipFill>
          <a:blip r:embed="rId1"/>
          <a:stretch/>
        </p:blipFill>
        <p:spPr>
          <a:xfrm>
            <a:off x="2514600" y="4191120"/>
            <a:ext cx="4343400" cy="17366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it-IT" sz="3200" spc="-1" strike="noStrike">
                <a:solidFill>
                  <a:srgbClr val="990000"/>
                </a:solidFill>
                <a:latin typeface="Arial"/>
                <a:ea typeface="Arial Unicode MS"/>
              </a:rPr>
              <a:t>L'abbigliamento</a:t>
            </a:r>
            <a:br>
              <a:rPr sz="3200"/>
            </a:b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 vestiti indossati dai Veneti antich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venivano confezionati con i tessuti prodotti dalle donne, che erano molto esperte nella filatura e nella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essitura delle lane e delle fibre vegetal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rse il colore più usato per tingere i tessuti era l'azzurro perché, a quei tempi,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a parola "veneto" serviva per indicare il colore azzurr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li uomini più importanti portavano il mantello che veniva poi fermato con lo spillone. Le donne più importanti, invece, portavano lo scialle che copriva i capelli e scendeva sulle spalle, come un velo;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er fermare lo scialle le donne usavano la fibul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=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pill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6:06:08Z</dcterms:created>
  <dc:creator>Enza</dc:creator>
  <dc:description/>
  <dc:language>en-US</dc:language>
  <cp:lastModifiedBy>Enza</cp:lastModifiedBy>
  <dcterms:modified xsi:type="dcterms:W3CDTF">2013-04-15T18:55:57Z</dcterms:modified>
  <cp:revision>28</cp:revision>
  <dc:subject/>
  <dc:title>Scopriamo le origini dei Veneti attraverso testimonianze scritte ed archeologiche</dc:title>
</cp:coreProperties>
</file>